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F27-6844-455C-84A5-96CC6D27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0E2-5E10-4073-B36A-4ED0652B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10B-0B89-484A-B30C-697F35C7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4C5-50B5-4D55-B29D-CB011128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E61-5A52-4A7B-B195-F5EF3488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1A7-D492-4911-8287-A06C3F38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6C6-DFF8-44F8-85BE-A2B33CAF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4F7-3081-4C4D-A14C-0CB8AE6B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EE8-ED2E-4ED1-8133-0722AE22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CA0-35D8-403A-B24E-E90BE07C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A32-52A4-4904-B685-4D12ED87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8D0-ECF7-40C5-87F5-30839B0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7124-E3DE-43DC-975C-E3D99D5C6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"/>
                <a:ea typeface="Tahoma"/>
              </a:rPr>
              <a:t>Definition of Curriculum Mapp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Raavi"/>
              </a:rPr>
              <a:t>Calendar-based curriculum mapping is a </a:t>
            </a:r>
            <a:r>
              <a:rPr b="0" lang="en-US" sz="3200" spc="-1" strike="noStrike">
                <a:solidFill>
                  <a:srgbClr val="00b050"/>
                </a:solidFill>
                <a:latin typeface="Trebuchet MS"/>
                <a:ea typeface="Raavi"/>
              </a:rPr>
              <a:t>procedure for collecting and maintaining an operational data base of the curriculum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Raavi"/>
              </a:rPr>
              <a:t>in a school or district.  Curriculum mapping provides the </a:t>
            </a:r>
            <a:r>
              <a:rPr b="0" lang="en-US" sz="3200" spc="-1" strike="noStrike">
                <a:solidFill>
                  <a:srgbClr val="3333ff"/>
                </a:solidFill>
                <a:latin typeface="Trebuchet MS"/>
                <a:ea typeface="Raavi"/>
              </a:rPr>
              <a:t>basis for authentic exam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Trebuchet MS"/>
                <a:ea typeface="Raavi"/>
              </a:rPr>
              <a:t>Module 1, Figure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3:16:04Z</dcterms:created>
  <dc:creator>Ann Johnson</dc:creator>
  <dc:description/>
  <dc:language>en-US</dc:language>
  <cp:lastModifiedBy>llakins</cp:lastModifiedBy>
  <dcterms:modified xsi:type="dcterms:W3CDTF">2009-08-11T19:51:58Z</dcterms:modified>
  <cp:revision>8</cp:revision>
  <dc:subject/>
  <dc:title>Curriculum Mapping</dc:title>
</cp:coreProperties>
</file>